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3EC-1CC9-4E7D-8E02-3652BF89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504-AB1C-43CC-9652-EF9FE69A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4DB-E040-459A-B806-51BC9B3E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0E4-B677-4079-9E7B-1318C5BF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99B-1F12-48E8-A47B-4481452F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B11-D62F-4ADC-84FB-9F787E6A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329-5291-44E9-9AAB-64D4B194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7B1-8C71-48AF-9E3B-EEA713D2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32D-8FA4-4EDC-ACE4-7868D710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7FD-859A-4BCE-83D1-9D881670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380-11B5-469E-9989-F0D7D565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41C-EF92-448D-A26B-266AADA6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9EBA-073C-444A-9AC6-130E41D9F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060640"/>
            <a:ext cx="792468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esson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ednesday 19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Aug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4.  EVALUATE - Reflect on the benefits of your programme of work and discuss future developm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426708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.  ANALYSE - Explain how key concept knowledge helped you analys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44792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.  INVESTIGATE - Explain how performance was investigated through colle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5720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.  DEVELOP - Explain the content and suitability of the programme you wer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1066680"/>
            <a:ext cx="3200400" cy="25146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57200"/>
            <a:ext cx="4114800" cy="7621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580560" y="601992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Positional Differenc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371600"/>
            <a:ext cx="8381880" cy="3080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vital that we consider positional differences when determining which aspects of fitness are important in hoc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goalkeeper will have very different fitness demands to a midfield player and a forward player will have different fitness demand than a midfiel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4724280"/>
            <a:ext cx="146700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4797360"/>
            <a:ext cx="1752840" cy="17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916360" y="4724280"/>
            <a:ext cx="28796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Positional Differenc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67652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2860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7000"/>
            <a:ext cx="8381880" cy="3445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cuss in your pair what the fitness expectation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idfie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f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oalkee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member to discuss the reasons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4797360"/>
            <a:ext cx="2648160" cy="176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19640" y="4797360"/>
            <a:ext cx="24465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Homework Task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67652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2860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413000"/>
            <a:ext cx="8381880" cy="2043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lease complete the ‘positional differences’ worksheet for Wednesday 2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August.  This will be entered into your course notes next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4221000"/>
            <a:ext cx="2592360" cy="2345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34606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7652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y the end of today’s lesson you 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now the time line for S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derstand the expectations for S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dentify the positional differences in ho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Course Ou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19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course outline until May i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3789360"/>
            <a:ext cx="3505320" cy="2043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ks 11-2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kills &amp; Techniques – Badminton (Including N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81080"/>
            <a:ext cx="4191120" cy="1556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ks 1-1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     Preparation of the Body – Ho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2819520"/>
            <a:ext cx="3504960" cy="2043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ks 21-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tructures &amp; Strategies - Baske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5181480"/>
            <a:ext cx="3505320" cy="10688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ks 30-35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7652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By the end of today’s lesson you 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Know the time line for S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Understand the expectations for S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Identify the positional differences in ho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Odd One Ou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usain_bolt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494080" cy="36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674800" cy="2674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92360" y="38210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51280" y="1773360"/>
            <a:ext cx="25639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Odd One Ou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205000" cy="2921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3308040" cy="2247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411280" y="3645000"/>
            <a:ext cx="2451240" cy="295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4466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Weekly out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676520"/>
            <a:ext cx="86868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uesday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– Prac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dnesday –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assroom lesson (m9) (homework issued and collect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iday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– Prac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ou must bring your PE folder to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every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les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Exam Expect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447920"/>
            <a:ext cx="845820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our final PE grade at Int 2 is made up 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50% from your practical performance (best 2 activiti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50% from ex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ou MUST complete the NAB before you can sit ex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Cycle of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67652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090440"/>
            <a:ext cx="868680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sk 1 – Enter the 4 underlined words into your blank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Reflect on the benefits of your programme of work and discuss future development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ANALYS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Explain how key concept knowledge helped you analys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INVESTIGAT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Explain how performance was investigated through collec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DEVELO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Explain the content and suitability of the programme you wer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219320"/>
            <a:ext cx="2971800" cy="23619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457200"/>
            <a:ext cx="4114800" cy="7621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580560" y="601992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1219320"/>
            <a:ext cx="22096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572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752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8-19T08:56:12Z</dcterms:modified>
  <cp:revision>8</cp:revision>
  <dc:subject/>
  <dc:title>Intermediate PE</dc:title>
</cp:coreProperties>
</file>